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E241E-11F5-4B5E-8ED3-746EBAF730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im:  What is cloning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Now:  Review our te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clone?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one refers to genetically identical cells originating from one ce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are they talking about when they refer to “cloned animals”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take DNA from a cloned cell of another animal, and insert it into a zygote that had its DNA removed, and replace it with the cloned D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loning look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ke on a cellular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vel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o did they clon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1997, they successfully cloned the first animal- a lamb named Dol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nucleus they used was from an adult of the same species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nce then, they have successfully cloned sheep and pi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they want to clone animal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do this to study genetic disorders and disease susceptibi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done strictly for medic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blue Biology book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urn to page 331 and read up to 33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swer questions 1-4 on page 333.  You need to read the previous pages in order to answer the ques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sure your name is on the paper – it will be collec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019DD-2658-48E1-BCE1-3AA3314CA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2C6A0-B820-4895-BDBF-BBAB27F83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D0B35-FA77-4460-B6FE-16F975EEE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4409-B208-4659-9684-DF0A32228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2801CF-4B06-4D97-926E-4BB1F4D8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61041A-9B24-4777-AB3E-1FD8485B5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149104-E285-4AF4-9777-96C86788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C0ED243-5823-4D9D-91AF-550903C0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D8C86B3-9C66-4133-AECC-AA809989B8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48E30-3603-4C9C-AC6D-0C749C8363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7A3761D-3D88-43F0-B419-C1B9C79F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1DAA-8D9E-43CC-837E-E4E5AFAF9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FDA1C4-53DD-4F00-B28C-37B10644E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319B34-131D-49BB-A9E1-490DFCB32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E147F43-D1D6-4A6C-BC0E-D7FD0CECB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B93DFF2-09CB-45A6-9224-CBB109F75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F5BBDC-3578-44D4-BE1E-B13244FE5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8969-7745-403A-9618-C6BFCEED0C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4670-674A-42A4-B828-9639CFED5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B90C-4C5F-4299-8362-49D08A1AA6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486B-2287-4241-80EE-090E3034D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C62C2-083E-4362-9F96-BCA67B673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72D2-A0B8-4FAA-AB10-96E76E4AE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CA1A-899E-4DCE-B4AC-6F3197B071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A0442-188B-4AEB-B0F8-09F940E5FE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4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1588" h="1912">
                <a:moveTo>
                  <a:pt x="0" y="0"/>
                </a:move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D69AC-4B33-45D6-A813-E4A786E6D00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Aim:  What is cloning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Do Now:  Review our test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at is a clone?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one refers to genetically identical cells originating from one cell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What are they talking about when they refer to “cloned animals”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take DNA from a cloned cell of another animal, and insert it into a zygote that had its DNA removed, and replace it with the cloned DNA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6" descr="cells3"/>
          <p:cNvPicPr/>
          <p:nvPr/>
        </p:nvPicPr>
        <p:blipFill>
          <a:blip r:embed="rId1"/>
          <a:stretch/>
        </p:blipFill>
        <p:spPr>
          <a:xfrm>
            <a:off x="4389480" y="304920"/>
            <a:ext cx="4754520" cy="655308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cloning look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ike on a cellular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level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Who did they clone?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n 1997, they successfully cloned the first animal- a lamb named Doll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 nucleus they used was from an adult of the same species. 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nce then, they have successfully cloned sheep and pig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5" descr="dolly"/>
          <p:cNvPicPr/>
          <p:nvPr/>
        </p:nvPicPr>
        <p:blipFill>
          <a:blip r:embed="rId1"/>
          <a:stretch/>
        </p:blipFill>
        <p:spPr>
          <a:xfrm>
            <a:off x="1066680" y="204840"/>
            <a:ext cx="6477120" cy="5958000"/>
          </a:xfrm>
          <a:prstGeom prst="rect">
            <a:avLst/>
          </a:prstGeom>
          <a:ln w="0">
            <a:noFill/>
          </a:ln>
        </p:spPr>
      </p:pic>
      <p:sp>
        <p:nvSpPr>
          <p:cNvPr id="1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9" descr="cloning-sheep"/>
          <p:cNvPicPr/>
          <p:nvPr/>
        </p:nvPicPr>
        <p:blipFill>
          <a:blip r:embed="rId1"/>
          <a:stretch/>
        </p:blipFill>
        <p:spPr>
          <a:xfrm>
            <a:off x="2482920" y="0"/>
            <a:ext cx="4498920" cy="7010280"/>
          </a:xfrm>
          <a:prstGeom prst="rect">
            <a:avLst/>
          </a:prstGeom>
          <a:ln w="0">
            <a:noFill/>
          </a:ln>
        </p:spPr>
      </p:pic>
      <p:sp>
        <p:nvSpPr>
          <p:cNvPr id="10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do they want to clone animals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ey do this to study genetic disorders and disease susceptibility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It is done strictly for medical research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In the blue Biology book…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urn to page 331 and read up to 333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Answer questions 1-4 on page 333.  You need to read the previous pages in order to answer the questions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Make sure your name is on the paper – it will be collected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13T03:53:53Z</dcterms:created>
  <dc:creator>Liza Evanson</dc:creator>
  <dc:description/>
  <dc:language>en-US</dc:language>
  <cp:lastModifiedBy>LEGION2</cp:lastModifiedBy>
  <dcterms:modified xsi:type="dcterms:W3CDTF">2016-01-12T10:16:54Z</dcterms:modified>
  <cp:revision>19</cp:revision>
  <dc:subject/>
  <dc:title>Aim:  What is cloning?</dc:title>
</cp:coreProperties>
</file>